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52D1-A2CD-448D-B7A4-5799782A4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9FF-E863-43A7-8E5B-781A67F461B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0AC5-B9AE-47DF-9006-58E20A8FAB5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36B-8DC6-4623-AD28-71DC09DA231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A153-9F7F-4F4D-BC8C-DD6AD2D9B33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D571-DEF5-4B32-A66C-6726FB64B7A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809A-4DEB-467E-838B-5C1780C7968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23DF-CAC7-430E-9AA6-8A79A71237A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741D-A140-456E-A4C5-661D4D61FCC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F02-D157-4C80-B06F-BD378FD8726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672-4BDA-4201-9173-93D08255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C47-F8DC-4E16-9996-F5A0854B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86C-19DC-4180-A108-1332AFA1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922-8F38-4FFD-9567-31DB9968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B72-9069-475E-B091-E319F10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57F-A3F0-44EF-B735-144D51A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A10-4294-4EEA-A27C-334FCBC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A55-8A94-445E-93D2-8F90660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1DE-A4A3-44DF-A041-CCB8C7E3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CBD-BC2B-49E5-B518-E2123744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77E-1F10-46E1-BF22-F71E8D7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E3E-DF78-4841-ADBB-D11A5E4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94C-00B0-4B90-9191-5E04C62D0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titleslidere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Impact"/>
                <a:ea typeface="Impact"/>
              </a:rPr>
              <a:t>PBL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6320" y="46054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6121b"/>
                </a:solidFill>
                <a:latin typeface="Calibri"/>
                <a:ea typeface="MS PGothic"/>
              </a:rPr>
              <a:t>Rody Booncho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PBL National Facu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Buck Institute for Edu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505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Managing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0880" y="152280"/>
          <a:ext cx="8382240" cy="6363000"/>
        </p:xfrm>
        <a:graphic>
          <a:graphicData uri="http://schemas.openxmlformats.org/drawingml/2006/table">
            <a:tbl>
              <a:tblPr/>
              <a:tblGrid>
                <a:gridCol w="1600200"/>
                <a:gridCol w="5715000"/>
                <a:gridCol w="1067040"/>
              </a:tblGrid>
              <a:tr h="838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ICAL FRIENDS TUNING PROTOC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Project Title &amp; Idea, Driving Question, Culminating Products or Performances, Entry Event*, and any concerns you’d like feedback ab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Y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c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udience asks short clarifying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Stuf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udience shares what they liked about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ndering Stuf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 Audience shares their concerns and probing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xt Stuf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udience shares their thoughts on resources and impr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Group reflects on useful feedback,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m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flipH="1">
            <a:off x="0" y="12952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773520" y="457200"/>
            <a:ext cx="537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alibri"/>
                <a:ea typeface="MS PGothic"/>
              </a:rPr>
              <a:t>By the end of PBL 101, you will have started planning a project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alibri"/>
                <a:ea typeface="MS PGothic"/>
              </a:rPr>
              <a:t>O Understanding “Main Course”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alibri"/>
                <a:ea typeface="MS PGothic"/>
              </a:rPr>
              <a:t>O Generating a Project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alibri"/>
                <a:ea typeface="MS PGothic"/>
              </a:rPr>
              <a:t>O Refining a Driving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alibri"/>
                <a:ea typeface="MS PGothic"/>
              </a:rPr>
              <a:t>O Balancing Assess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O </a:t>
            </a:r>
            <a:r>
              <a:rPr b="1" lang="en-US" sz="2400" spc="-1" strike="noStrike">
                <a:solidFill>
                  <a:srgbClr val="b6121b"/>
                </a:solidFill>
                <a:latin typeface="Calibri"/>
                <a:ea typeface="MS PGothic"/>
              </a:rPr>
              <a:t>Gathering Tips for Managing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alibri"/>
                <a:ea typeface="MS PGothic"/>
              </a:rPr>
              <a:t>O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3886200" y="4648320"/>
            <a:ext cx="152280" cy="1522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066680" y="0"/>
            <a:ext cx="7126560" cy="5443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828800" y="5181480"/>
            <a:ext cx="67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with the End in M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playbuttonblue.jpg"/>
          <p:cNvPicPr/>
          <p:nvPr/>
        </p:nvPicPr>
        <p:blipFill>
          <a:blip r:embed="rId2"/>
          <a:stretch/>
        </p:blipFill>
        <p:spPr>
          <a:xfrm>
            <a:off x="2666880" y="685800"/>
            <a:ext cx="375624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609480" y="4689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6121b"/>
                </a:solidFill>
                <a:latin typeface="Calibri"/>
                <a:ea typeface="MS PGothic"/>
              </a:rPr>
              <a:t>CLASSROOM CULTURE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atch the video, and look</a:t>
            </a:r>
            <a:r>
              <a:rPr b="1" lang="en-US" sz="2400" spc="-1" strike="noStrike">
                <a:solidFill>
                  <a:srgbClr val="b6121b"/>
                </a:solidFill>
                <a:latin typeface="Calibri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or some behaviors by the teacher and students that indicate a culture of inquiry and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Grouping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2193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7315200" cy="55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Predator d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Homogenized is only good for mi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Fantastic 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Leadership through roles or task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Communication Skills (S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Contracts (with firing cla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Slacker hard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It pays to work hard and be a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827"/>
                </a:solidFill>
                <a:latin typeface="Arial"/>
              </a:rPr>
              <a:t>Group skills (Co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18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4ec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predatordrone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6"/>
          <p:cNvSpPr/>
          <p:nvPr/>
        </p:nvSpPr>
        <p:spPr>
          <a:xfrm>
            <a:off x="1828800" y="472428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sure individual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447920" y="838080"/>
            <a:ext cx="5994360" cy="353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914400" y="4800600"/>
            <a:ext cx="762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oid death-by-repetitive-present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5" descr="Warhol3"/>
          <p:cNvPicPr/>
          <p:nvPr/>
        </p:nvPicPr>
        <p:blipFill>
          <a:blip r:embed="rId2"/>
          <a:stretch/>
        </p:blipFill>
        <p:spPr>
          <a:xfrm>
            <a:off x="1600200" y="838080"/>
            <a:ext cx="5715000" cy="35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Heptagon 3"/>
          <p:cNvSpPr/>
          <p:nvPr/>
        </p:nvSpPr>
        <p:spPr>
          <a:xfrm>
            <a:off x="1600200" y="380880"/>
            <a:ext cx="5943600" cy="594360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Heptagon 4"/>
          <p:cNvSpPr/>
          <p:nvPr/>
        </p:nvSpPr>
        <p:spPr>
          <a:xfrm>
            <a:off x="3160800" y="2089080"/>
            <a:ext cx="2822400" cy="282420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o would you  put on a te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6"/>
          <p:cNvSpPr/>
          <p:nvPr/>
        </p:nvSpPr>
        <p:spPr>
          <a:xfrm>
            <a:off x="4570560" y="382680"/>
            <a:ext cx="2880" cy="1708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9"/>
          <p:cNvSpPr/>
          <p:nvPr/>
        </p:nvSpPr>
        <p:spPr>
          <a:xfrm>
            <a:off x="2188440" y="1558080"/>
            <a:ext cx="1251000" cy="108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11"/>
          <p:cNvSpPr/>
          <p:nvPr/>
        </p:nvSpPr>
        <p:spPr>
          <a:xfrm flipV="1">
            <a:off x="1599480" y="3904920"/>
            <a:ext cx="1560600" cy="298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13"/>
          <p:cNvSpPr/>
          <p:nvPr/>
        </p:nvSpPr>
        <p:spPr>
          <a:xfrm flipV="1">
            <a:off x="3249000" y="4913280"/>
            <a:ext cx="693720" cy="1411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5"/>
          <p:cNvSpPr/>
          <p:nvPr/>
        </p:nvSpPr>
        <p:spPr>
          <a:xfrm flipH="1" flipV="1">
            <a:off x="5200200" y="4913280"/>
            <a:ext cx="693720" cy="1411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7"/>
          <p:cNvSpPr/>
          <p:nvPr/>
        </p:nvSpPr>
        <p:spPr>
          <a:xfrm flipH="1" flipV="1">
            <a:off x="5982840" y="3904920"/>
            <a:ext cx="1560600" cy="298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9"/>
          <p:cNvSpPr/>
          <p:nvPr/>
        </p:nvSpPr>
        <p:spPr>
          <a:xfrm flipH="1">
            <a:off x="5703480" y="1558800"/>
            <a:ext cx="1251000" cy="108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2977560" y="14479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2013120" y="2684520"/>
            <a:ext cx="109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ACADEM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SK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4888440" y="1447920"/>
            <a:ext cx="131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21</a:t>
            </a:r>
            <a:r>
              <a:rPr b="1" lang="en-US" sz="1600" spc="-1" strike="noStrike" baseline="30000">
                <a:solidFill>
                  <a:srgbClr val="ffffff"/>
                </a:solidFill>
                <a:latin typeface="Calibri"/>
                <a:ea typeface="MS PGothic"/>
              </a:rPr>
              <a:t>s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8"/>
          <p:cNvSpPr/>
          <p:nvPr/>
        </p:nvSpPr>
        <p:spPr>
          <a:xfrm>
            <a:off x="5641200" y="45212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6127560" y="2692440"/>
            <a:ext cx="91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SKILL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AL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4115880" y="5359320"/>
            <a:ext cx="9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2511720" y="461484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earup.jpg"/>
          <p:cNvPicPr/>
          <p:nvPr/>
        </p:nvPicPr>
        <p:blipFill>
          <a:blip r:embed="rId2"/>
          <a:srcRect l="0" t="1528" r="0" b="0"/>
          <a:stretch/>
        </p:blipFill>
        <p:spPr>
          <a:xfrm>
            <a:off x="1295280" y="0"/>
            <a:ext cx="6553440" cy="4888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609480" y="43938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6121b"/>
                </a:solidFill>
                <a:latin typeface="Calibri"/>
                <a:ea typeface="MS PGothic"/>
              </a:rPr>
              <a:t>TEAM WORK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s a group, discuss how you would form teams. What factors would be most important when deciding which students should be on a team? Be prepared to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8088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THINK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SHAR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1:41:47Z</dcterms:created>
  <dc:creator>Erika Bauer</dc:creator>
  <dc:description/>
  <dc:language>en-US</dc:language>
  <cp:lastModifiedBy>rody</cp:lastModifiedBy>
  <dcterms:modified xsi:type="dcterms:W3CDTF">2010-05-04T15:04:02Z</dcterms:modified>
  <cp:revision>74</cp:revision>
  <dc:subject/>
  <dc:title>PowerPoint Presentation  -  Title Here</dc:title>
</cp:coreProperties>
</file>